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DD4-370A-48C1-94EF-A08CBBCC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716-22D6-40F6-8C38-9364FE07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DA907-4CEF-4E45-A509-8FED8FF5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71241-32EC-49E1-A3C1-297CEE5D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32FB3-3C39-4133-8678-7CB8EB6F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477B7-865C-4C71-B4A8-CF088C50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81F23-904C-4BD2-ADB1-973AA55A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A49AF-11CA-4A18-AA23-AF05F453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25DBD-9770-416E-95D6-B047B23F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80E7B-C2C2-46C9-84B4-0700DD82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40DED-E8AE-4590-87E3-1569FC16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CB51F-A6EF-41A0-9599-31BB4E69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8F2-5CE0-471C-AE60-1EC3F5A0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81930-8C47-44F4-BCE3-2EE7E6A3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DCBEB-BA14-4FC2-A1E6-51F77825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C9145-BA92-44B7-A5C7-A6597520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0C226-E8B5-47E7-9FCC-270C2CC9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7DD45-CE0A-4921-8526-50102C51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1A8FF-10D8-474D-91B0-C9EDEC1B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ED00A-C725-4A6D-AD61-57A5A23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2B188-C6B2-4E87-8836-BD3F741A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8A37E-E7F2-439B-89FC-54830D5F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3275D-C8F5-45F9-B871-18C0DC6F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06C-8B12-49B3-897B-72036DE9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23326-056E-4870-BCEA-7313A824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46660-6EE6-48B7-9CAB-9EF629A0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9C148-4E6D-403B-AD0D-439543D0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7EF77-B60B-4521-83A8-41C00331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1DA57-E4E9-4060-B76C-AED8B98C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B829D-4CB3-4323-8653-2328A4EE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F875B-CB87-4FBD-ACE2-A37BAAD6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778F8-533E-4FA8-A884-3ECF8427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72A09-3860-42CB-90AF-73B92502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D6184-6FF3-48D9-8CE9-AF386D3A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E765-42FD-4278-92E6-59632F99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F4A4E-ACE8-48D2-935F-FA56072C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14CF0-DAC2-4B30-9740-BEC64AD6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CCE9A-8A2E-47C1-B697-2DBBE004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C09D9-7A71-4429-AFFA-BBF8F05F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DC53A-6BF6-4736-80FE-8B9ECB1B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CEC49-FDD1-48AB-AF9E-85300198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188D5-F8DA-41D4-A2CC-03401F01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7C489-D615-43EC-93DE-BB7F04E6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135B8-4D76-46EF-85D9-354A59B0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AC986-DBF6-4AD2-AB4B-3F080B5A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A780-A359-4AA8-B66B-605F4547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73137-A7F9-4E51-A3E0-608DD442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412C8-2532-4DF6-BE67-847710D0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B455E-9023-449F-A375-A6550081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EF14C-CE4A-4C9C-91DF-0CCE2FBF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B8742-1FB2-40EF-9369-0E88ECC1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2048E-EF8B-4FB3-A04E-E01814B0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8445E-196A-4FA5-96DB-2CCCE442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AE6F8-BC18-490E-9455-BB174EB6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A3A96-C7A4-456B-8CB8-212E7FE5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A0F5E-EA90-4F48-A184-01BA230D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EEFE-5D42-4251-AFF1-9F54A05D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6D0E2-38DC-40A8-84F7-6F6E981F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4721E-B7C9-4E9F-9434-0C2EC5FC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BB512-47DE-4EFE-8D34-FBC60507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2FF02-4770-493A-ADBE-A74AF733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0749E-2826-4F26-98BF-6AED1008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4F4F0-BA04-47B1-AABB-D6317213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70C8F-D9C5-41E8-A793-38F75FE3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13A32-560F-4963-9D85-DD748D57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F5823-82B6-4FB0-9725-0D9B58E0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61620-8C3A-4090-8EA5-F6204BAA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B5DA-BFB6-4977-9C15-A5B3DFE6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9DF12-FDAF-40E6-8FA0-3F236133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E90AB-7103-4034-97A6-A5B9294F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2B399-06EC-4DAE-ABD5-EC292F22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85279-A226-4368-A36C-76B31A22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CDA0B-E9D4-4C65-8F36-C6ED80FE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10968-5882-43B6-8A6F-AD2820B4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B2340-56C0-4743-8C4C-9EF563C8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FFDF6-7731-48FE-BA82-088BF346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8D63F-75D2-4683-B1A0-127021BC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B72E8F-FCCF-42A2-A3D9-5AEC5C01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04E8-D6FE-4EA8-9704-E4D6B1EC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90795-8B85-4456-8810-105E345B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0147F-BB96-43F7-B9AB-96524946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AEC68-C95F-4BB1-BFAC-029F6245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CC778-4877-4943-BAE5-11377C23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CC93F-6050-4EE5-8C00-163F2562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4FF01C-EA7F-45E4-83CB-6BB7AF44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811FA-0619-4B63-B574-50BA7E99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DB51E-7BCA-4DD5-994B-B96AFE43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7F55B-D4FD-4225-BC80-D4C935EB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1E218-84EE-4003-A223-08E23BC7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9E31-45B7-455C-94C0-6FDAB904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8D7600-ABB1-4E13-8676-BF7968C4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33E93-5D10-4F60-8EA7-6FCEBDEF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567939-CCC2-41CB-A5F9-DE01EE73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096D7-AEC4-4E43-A3E7-A13FA7CE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BC643E-131D-4039-96B6-E1923F1B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620619-9466-4B0B-A69F-10D72DEA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41201B-C6E6-4F58-9125-5F46FF8F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63B80-008B-40B7-85E4-DF1E2C5F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A60814-2AC4-42F3-8F41-8CB6146B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180F9-0C9E-4868-A859-50870209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CD55-5F79-433C-9808-11B5CC37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421AB-6F7F-472C-8F0F-09A6F82B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BCCD5B-8CF6-4822-BC22-155C7541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4516C9-5D01-42D9-BF5F-B795EF40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CECF1-910C-47ED-AC48-B5766A8A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D31EF4-109A-44E3-8684-68B06D24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F1670C-044D-470F-876D-AA21C329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A8D164-1084-4D5F-B92A-016B746F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7B53A-1BBB-4EC1-9632-E7277EC1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64049-187C-41FC-80B5-3D1D3F6B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0EF98-CF83-4801-8BB9-19B5962B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2BD-2B2A-4A8D-82F5-9EB2A44D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18F2-0287-4B1B-A76A-0474608D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B70CA9-D8BB-452A-9069-A040B37D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CD0705-2A65-4C45-BF0F-77DAB6C4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662FFC-6119-4CAB-806E-BEA96287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3CE1E-100A-4253-8471-2B28B281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6E520-CCA2-43A1-924A-29822C17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BB588-ED4D-478A-B521-7C86EA2D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25005A-84E5-46F5-A762-89BBFDE5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DEC0CA-260E-4D7F-89B7-C4B65588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4CF952-06FE-4DD3-89AB-B856EBDE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7299D8-4678-4976-823B-422AD445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63DC-5805-48CA-B3CB-CC31DB3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647BD-AFFB-4722-83C1-5BEB083F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497C2-510C-461A-A81F-4C094A56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D054F7-791C-4FA4-B731-11DA1D50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278B7-DEE2-414C-B02F-08F78A1B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7753E6-ED22-4D15-93BD-4A336586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3DE41-C4BD-4171-8616-C5AD9188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539102-0898-4CAE-95C1-666F4B29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E95D8C-BBAB-441F-B5C4-96CBD2CC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A9B33-E1AA-4622-BED3-79CCCBAB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DD3B7B-DE23-45D2-A856-842213A8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AEAA-8C35-45F2-8DA7-62DEA423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5B8CF4-704F-491F-AF71-3C7A97F9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371AF-44D4-41F2-A04C-7D8333FB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0AAF9-2581-4E05-AAEF-F65B0E91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686B4C-1CAA-4B40-8334-CEBEAD8F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9E5FB7-690E-4816-8C0E-99DC2519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69D495-CAE1-4512-A57E-B885FE47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9D27AA-59D5-475D-9FB4-83F86228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0381D1-4819-459A-B332-163D5CDF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375FEF-31CC-4C55-A669-8F4D386F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A4B4D6-34E3-4295-9A2F-AA8959B5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6B6D-F7E6-4AA9-953C-C602E14D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8E740C-3876-44C4-A380-A7F5FD16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D9427C-B381-430D-9C9D-82D9DEEF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558D1F-12C2-4EDA-BDD0-B07145AC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D979C-1131-4BCB-B3B8-C8A0840F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CBED24-144F-4DB0-A66D-660D75D2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275810-FE48-40C3-A159-108CE942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46BD70-F174-41B8-9E0F-60C90D5B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E62ED6-45EC-40EA-A2B8-AC1FE444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07C0F9-42F4-43B0-9E74-13D9EFB7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1C4BC-EC55-4A05-8409-77CDA3CB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E891-8738-482F-92C8-5249ECDB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2A3C7A-9323-41CF-9896-5B74579D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043027-A249-496E-8F33-0ACE994B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2DA21-622D-495E-B3C9-6CCAFCDB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AD00C-BF15-4182-BBA6-EBADE061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D99D35-FB90-4701-A8AD-113ED1C4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998A68-D6D2-4EB6-86ED-EA754E82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13FE0-916C-4F47-BA9C-04DB91B7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5E0A25-6536-408C-AC30-F5CFDAD0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23829D-DB56-46C8-86D3-8FF91521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1E407D-33D3-4923-A4D8-F548A47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B72F-D485-4C46-9E43-77729E6D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BB5731-3C0E-4AD4-804F-8119EB9C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B7A797-BED3-421B-8B2D-A64EFB06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B77FC-F8A6-43BC-8518-D77A4FD2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5720-2B26-4828-8A5C-563BC234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1462D-6E2B-439A-8A9C-EEBBAE80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BBCB-1D11-427F-96EE-A1EAD794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321CE-C7C3-4FAC-B898-3D97048D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6CE-818A-4E8E-BC95-FC632803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5D10-59E6-4092-A001-5278842C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D486-B9E4-45BD-B6D2-C41E2CB9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E2BA-BEAD-48CA-886B-1AD676F5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DBCC-3A3C-45F3-84CA-7CCBF588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A4A1-3666-4C91-9F22-AEDED252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D5C8-68CF-4B88-A088-07D4E5F9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2D46-9150-4D6A-BB08-4F9AC854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9B342-CF6D-4FF1-980C-AD0F1980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85179-65AC-4D35-897A-9055744C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0A23-34E1-4866-A894-90CA0A13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211-9822-4553-B0F4-949AD8F1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DA15F-EA1D-4DA1-A79B-B99BC49C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ECFC3-0254-4E0C-8A99-22ECD874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C958-94E1-46A7-BF4F-D8FC15CC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472DD-A77D-48BC-BBA4-745413EB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56C51-3971-4BA3-AAF9-B3C297DF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62569-DE57-4941-BA1A-F84C984A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8503-E57D-40C1-B03A-DB899B36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A3182-EB4F-4A4C-BB09-8F0CDBA3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8C520-78A4-461F-AD9C-6020E514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97A8B-1DE0-4698-9C9A-B8EE44F4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6B1-C23D-461C-9CF1-C9D95A70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E3894-02E6-4C83-8093-09183213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DF5F0-9EC9-4921-86C8-78C67602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5AB47-3D77-4225-923F-F2CE1B59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2676C-8B32-44EB-947C-32499FD9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DDA65-0803-4091-AC38-6DB9E092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4AAB7-0B00-4AD8-9B76-5F442286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29416-6431-4ED4-9C2C-C21301CF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3AE21-D759-4885-B8F1-9BE67439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51168-E73E-4B96-BBEA-0C63E861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54DDB-47F3-45DA-9CCF-D1F7B0C3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354-08B5-444D-98E4-411B293E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06714-E39C-4AD7-9D25-834A27B7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A31A2-4D0C-4330-9562-603458B9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31999-FA2F-4A2E-84FF-6A8D6084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2CDDA-3C83-426D-A302-5FEFE903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9FE4E-3FE8-46BA-A1C3-18F12A8A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D8EEC-3846-49E3-B94E-39E164A8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01230-964D-4A64-A0FB-04349901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7DE5E-46B7-45C8-9A42-B58DE6F5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5CD9A-F587-4550-95B5-6076203A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DC56E-D569-4FF2-8288-568A0176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B47-F8FC-400C-BBAF-1B25DB5E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432FC-5F2A-43DC-83F2-2EA7A123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98B57-1E1B-482B-A286-95574016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706B8-4DCE-44BE-8DD7-8F59AE12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1D680-AC96-413C-B54F-D691A6BA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850CE-FC1B-4D7D-B65F-81EABF22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859BB-4EDC-4F28-ABE9-7B78EECF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2E60E-3ACB-49BC-BF14-03C2B48C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1AE0C-9580-41D7-81C5-05E362C4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D8090-303A-4905-829F-37209D6E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42AD0-CB7F-4785-837E-8BDF3390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46E-B9C0-4259-9548-B9F25DFB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C4AA9-B999-44BC-9DDB-89FB0C37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F8A65-2FFA-401F-B04E-32983F97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A8ACA-E12B-4C55-B7E4-A634D931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BAFA5-94C4-4900-B42A-EB50C7DC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D47F5-7945-478B-80BC-367E5862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2075D-F0D9-4BB2-AAFA-7B91E445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65A5F-1B29-4DAB-B13C-0BBC3EFC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8B7B0-D613-457A-A972-65C36025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3D8E8-21BC-481A-B537-CE76E4AB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E1443-2FE5-4E76-B054-D1B46B05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349-FAEF-46AC-A181-B898473C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F70B2-0892-466C-9DB0-6E53808E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56669-0D7C-4C03-A15C-48C83B36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D3365-2E98-4575-B912-72F4B6BE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27A69-8093-4642-AC4F-C863F79F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21C5A-1373-46A8-8636-CA308505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7AA6C-8DB8-4FE3-B373-FC96A066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E1CF1-AB20-42FF-8F21-E029B069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A4EE4-752A-4218-9590-55774A90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E23C1-BEFE-4F78-BDEE-5A04CC3D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DBBA1-8125-45D3-B8AE-A89BE68F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DC5A-99BC-41E6-8709-02C7CAB101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DF7D-14D9-4CFC-81E0-317792ED42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FA5C-E50E-487F-A7C1-0D63AC303F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D02F-7E34-4D0C-ACCE-9A71183C39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A575-A1A6-4279-8669-B0C32D76AE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211B-93E6-435B-9CBA-6F882E688E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8579-755C-4306-9F2E-6D826A6937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34F5-E896-4158-95DC-8CFA9830CA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3BE2-93AC-4BF1-B365-850B7E2E5A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0DAF-083B-4930-B21E-A1478103E4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EA32-CEE0-4A55-AEB3-970E9A6F30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B7AB-3462-4B08-8278-7A384B77A8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469A-51A2-4D0F-8183-ECDEB71E1C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3AAE-9FEE-4E73-89D5-FEDB45569B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7150-EBF2-42BD-86AA-E1773E2E6A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CC46-332F-44BF-ADDB-4F79196745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82E1-934F-4D1C-BFFC-A984726FC9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FA0C-EE24-4062-BA56-3D25D15744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71F1-855D-458A-9599-EE119A42BC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8536-FF9A-484A-8C3F-FD4AFEDA54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8DFF-1B4A-4711-AD2C-80609F1B37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3AC7-34F1-4D46-8F95-DFBF79F34F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9D11-3C37-4B6A-9B35-FA77F214FA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EC31-8A3D-4F75-8C34-C2F2C10273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3AC4-3910-4470-A088-F24BBC9815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AF6A-6E4D-4EAA-AFDE-BF212EC3DB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7CC7-FCD5-4563-BBFF-4A1640C7C5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B02C-542F-4697-84D7-22BB33ABB9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9DE4-CEA6-4F1D-B637-5EF4006086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5FF6-4DDA-41BC-B3F2-22488BB22E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B48C-4420-45FD-B9C8-E8FF28508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5A4C-455E-45F4-B663-EB89A3E5D9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8136-6206-478F-8985-044994A4FA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CCB6-1D79-498E-9BB8-D1BC2D23B6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DA91-D610-4799-B125-6A213AAD8E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62ED-C0C8-400D-8EF9-ABF667E392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597D-A6F0-4207-BB9B-DD86FEF036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EC4D-53C2-4BF3-8417-4D04A7BD97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78FD-AEB1-4727-9010-8694497ACF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D9A6-3D96-416A-B930-1D4A826F10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181480" cy="91440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81" descr=""/>
          <p:cNvPicPr/>
          <p:nvPr/>
        </p:nvPicPr>
        <p:blipFill>
          <a:blip r:embed="rId2"/>
          <a:stretch/>
        </p:blipFill>
        <p:spPr>
          <a:xfrm>
            <a:off x="3059280" y="3933720"/>
            <a:ext cx="28573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79873" descr=""/>
          <p:cNvPicPr/>
          <p:nvPr/>
        </p:nvPicPr>
        <p:blipFill>
          <a:blip r:embed="rId1"/>
          <a:stretch/>
        </p:blipFill>
        <p:spPr>
          <a:xfrm>
            <a:off x="547560" y="1247760"/>
            <a:ext cx="8048880" cy="4362480"/>
          </a:xfrm>
          <a:prstGeom prst="rect">
            <a:avLst/>
          </a:prstGeom>
          <a:ln w="0">
            <a:noFill/>
          </a:ln>
        </p:spPr>
      </p:pic>
      <p:sp>
        <p:nvSpPr>
          <p:cNvPr id="1060" name="矩形 79874"/>
          <p:cNvSpPr/>
          <p:nvPr/>
        </p:nvSpPr>
        <p:spPr>
          <a:xfrm>
            <a:off x="6950160" y="1882800"/>
            <a:ext cx="36504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79875"/>
          <p:cNvSpPr/>
          <p:nvPr/>
        </p:nvSpPr>
        <p:spPr>
          <a:xfrm>
            <a:off x="2463840" y="2406600"/>
            <a:ext cx="5745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78849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38960" cy="184788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78850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7762680" cy="2333880"/>
          </a:xfrm>
          <a:prstGeom prst="rect">
            <a:avLst/>
          </a:prstGeom>
          <a:ln w="0">
            <a:noFill/>
          </a:ln>
        </p:spPr>
      </p:pic>
      <p:sp>
        <p:nvSpPr>
          <p:cNvPr id="1064" name="矩形 78851"/>
          <p:cNvSpPr/>
          <p:nvPr/>
        </p:nvSpPr>
        <p:spPr>
          <a:xfrm>
            <a:off x="1835280" y="3216240"/>
            <a:ext cx="26510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78852"/>
          <p:cNvSpPr/>
          <p:nvPr/>
        </p:nvSpPr>
        <p:spPr>
          <a:xfrm>
            <a:off x="6732720" y="4365720"/>
            <a:ext cx="182700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78853"/>
          <p:cNvSpPr/>
          <p:nvPr/>
        </p:nvSpPr>
        <p:spPr>
          <a:xfrm>
            <a:off x="1258920" y="4941720"/>
            <a:ext cx="9968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77825" descr=""/>
          <p:cNvPicPr/>
          <p:nvPr/>
        </p:nvPicPr>
        <p:blipFill>
          <a:blip r:embed="rId1"/>
          <a:stretch/>
        </p:blipFill>
        <p:spPr>
          <a:xfrm>
            <a:off x="542880" y="1714680"/>
            <a:ext cx="8058240" cy="3429000"/>
          </a:xfrm>
          <a:prstGeom prst="rect">
            <a:avLst/>
          </a:prstGeom>
          <a:ln w="0">
            <a:noFill/>
          </a:ln>
        </p:spPr>
      </p:pic>
      <p:sp>
        <p:nvSpPr>
          <p:cNvPr id="1068" name="矩形 77826"/>
          <p:cNvSpPr/>
          <p:nvPr/>
        </p:nvSpPr>
        <p:spPr>
          <a:xfrm>
            <a:off x="1758960" y="4054320"/>
            <a:ext cx="378468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77827"/>
          <p:cNvSpPr/>
          <p:nvPr/>
        </p:nvSpPr>
        <p:spPr>
          <a:xfrm>
            <a:off x="1120680" y="4616280"/>
            <a:ext cx="81288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77828"/>
          <p:cNvSpPr/>
          <p:nvPr/>
        </p:nvSpPr>
        <p:spPr>
          <a:xfrm>
            <a:off x="6073920" y="4616280"/>
            <a:ext cx="6699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76801" descr=""/>
          <p:cNvPicPr/>
          <p:nvPr/>
        </p:nvPicPr>
        <p:blipFill>
          <a:blip r:embed="rId1"/>
          <a:stretch/>
        </p:blipFill>
        <p:spPr>
          <a:xfrm>
            <a:off x="528480" y="905040"/>
            <a:ext cx="8087040" cy="5047920"/>
          </a:xfrm>
          <a:prstGeom prst="rect">
            <a:avLst/>
          </a:prstGeom>
          <a:ln w="0">
            <a:noFill/>
          </a:ln>
        </p:spPr>
      </p:pic>
      <p:sp>
        <p:nvSpPr>
          <p:cNvPr id="1072" name="矩形 76802"/>
          <p:cNvSpPr/>
          <p:nvPr/>
        </p:nvSpPr>
        <p:spPr>
          <a:xfrm>
            <a:off x="4883040" y="3197160"/>
            <a:ext cx="9651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76803"/>
          <p:cNvSpPr/>
          <p:nvPr/>
        </p:nvSpPr>
        <p:spPr>
          <a:xfrm>
            <a:off x="6102360" y="3740040"/>
            <a:ext cx="36504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90114" descr=""/>
          <p:cNvPicPr/>
          <p:nvPr/>
        </p:nvPicPr>
        <p:blipFill>
          <a:blip r:embed="rId1"/>
          <a:stretch/>
        </p:blipFill>
        <p:spPr>
          <a:xfrm>
            <a:off x="490680" y="890640"/>
            <a:ext cx="8162640" cy="5076720"/>
          </a:xfrm>
          <a:prstGeom prst="rect">
            <a:avLst/>
          </a:prstGeom>
          <a:ln w="0">
            <a:noFill/>
          </a:ln>
        </p:spPr>
      </p:pic>
      <p:sp>
        <p:nvSpPr>
          <p:cNvPr id="1075" name="矩形 90115"/>
          <p:cNvSpPr/>
          <p:nvPr/>
        </p:nvSpPr>
        <p:spPr>
          <a:xfrm>
            <a:off x="4816440" y="5521320"/>
            <a:ext cx="15559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91137" descr=""/>
          <p:cNvPicPr/>
          <p:nvPr/>
        </p:nvPicPr>
        <p:blipFill>
          <a:blip r:embed="rId1"/>
          <a:stretch/>
        </p:blipFill>
        <p:spPr>
          <a:xfrm>
            <a:off x="476280" y="781200"/>
            <a:ext cx="8191440" cy="5295600"/>
          </a:xfrm>
          <a:prstGeom prst="rect">
            <a:avLst/>
          </a:prstGeom>
          <a:ln w="0">
            <a:noFill/>
          </a:ln>
        </p:spPr>
      </p:pic>
      <p:sp>
        <p:nvSpPr>
          <p:cNvPr id="1077" name="矩形 91138"/>
          <p:cNvSpPr/>
          <p:nvPr/>
        </p:nvSpPr>
        <p:spPr>
          <a:xfrm>
            <a:off x="5797440" y="3816360"/>
            <a:ext cx="166068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91139"/>
          <p:cNvSpPr/>
          <p:nvPr/>
        </p:nvSpPr>
        <p:spPr>
          <a:xfrm>
            <a:off x="7693200" y="4968720"/>
            <a:ext cx="48888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92161" descr=""/>
          <p:cNvPicPr/>
          <p:nvPr/>
        </p:nvPicPr>
        <p:blipFill>
          <a:blip r:embed="rId1"/>
          <a:stretch/>
        </p:blipFill>
        <p:spPr>
          <a:xfrm>
            <a:off x="676440" y="2305080"/>
            <a:ext cx="7791120" cy="2247840"/>
          </a:xfrm>
          <a:prstGeom prst="rect">
            <a:avLst/>
          </a:prstGeom>
          <a:ln w="0">
            <a:noFill/>
          </a:ln>
        </p:spPr>
      </p:pic>
      <p:sp>
        <p:nvSpPr>
          <p:cNvPr id="1080" name="矩形 92162"/>
          <p:cNvSpPr/>
          <p:nvPr/>
        </p:nvSpPr>
        <p:spPr>
          <a:xfrm>
            <a:off x="2397240" y="3397320"/>
            <a:ext cx="755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92163"/>
          <p:cNvSpPr/>
          <p:nvPr/>
        </p:nvSpPr>
        <p:spPr>
          <a:xfrm>
            <a:off x="6156360" y="3357720"/>
            <a:ext cx="931680" cy="45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92164"/>
          <p:cNvSpPr/>
          <p:nvPr/>
        </p:nvSpPr>
        <p:spPr>
          <a:xfrm>
            <a:off x="3132000" y="4005360"/>
            <a:ext cx="59868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88065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952720" cy="75276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88066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486640" cy="4429080"/>
          </a:xfrm>
          <a:prstGeom prst="rect">
            <a:avLst/>
          </a:prstGeom>
          <a:ln w="0">
            <a:noFill/>
          </a:ln>
        </p:spPr>
      </p:pic>
      <p:sp>
        <p:nvSpPr>
          <p:cNvPr id="1026" name="矩形 88067"/>
          <p:cNvSpPr/>
          <p:nvPr/>
        </p:nvSpPr>
        <p:spPr>
          <a:xfrm>
            <a:off x="2556000" y="1773360"/>
            <a:ext cx="129528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68"/>
          <p:cNvSpPr/>
          <p:nvPr/>
        </p:nvSpPr>
        <p:spPr>
          <a:xfrm>
            <a:off x="1467000" y="2098800"/>
            <a:ext cx="41904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69"/>
          <p:cNvSpPr/>
          <p:nvPr/>
        </p:nvSpPr>
        <p:spPr>
          <a:xfrm>
            <a:off x="7308720" y="1773360"/>
            <a:ext cx="11718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0"/>
          <p:cNvSpPr/>
          <p:nvPr/>
        </p:nvSpPr>
        <p:spPr>
          <a:xfrm>
            <a:off x="6516720" y="2133720"/>
            <a:ext cx="200016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1"/>
          <p:cNvSpPr/>
          <p:nvPr/>
        </p:nvSpPr>
        <p:spPr>
          <a:xfrm>
            <a:off x="4427640" y="2852640"/>
            <a:ext cx="15001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4"/>
          <p:cNvSpPr/>
          <p:nvPr/>
        </p:nvSpPr>
        <p:spPr>
          <a:xfrm>
            <a:off x="7812000" y="2852640"/>
            <a:ext cx="6526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8075"/>
          <p:cNvSpPr/>
          <p:nvPr/>
        </p:nvSpPr>
        <p:spPr>
          <a:xfrm>
            <a:off x="5651640" y="3933720"/>
            <a:ext cx="1162080" cy="3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88076"/>
          <p:cNvSpPr/>
          <p:nvPr/>
        </p:nvSpPr>
        <p:spPr>
          <a:xfrm>
            <a:off x="2050920" y="4724280"/>
            <a:ext cx="7048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8077"/>
          <p:cNvSpPr/>
          <p:nvPr/>
        </p:nvSpPr>
        <p:spPr>
          <a:xfrm>
            <a:off x="2050920" y="5084640"/>
            <a:ext cx="140040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8078"/>
          <p:cNvSpPr/>
          <p:nvPr/>
        </p:nvSpPr>
        <p:spPr>
          <a:xfrm>
            <a:off x="3708360" y="5411880"/>
            <a:ext cx="72396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88079"/>
          <p:cNvSpPr/>
          <p:nvPr/>
        </p:nvSpPr>
        <p:spPr>
          <a:xfrm>
            <a:off x="8244000" y="5445000"/>
            <a:ext cx="40788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8080"/>
          <p:cNvSpPr/>
          <p:nvPr/>
        </p:nvSpPr>
        <p:spPr>
          <a:xfrm>
            <a:off x="539640" y="5805360"/>
            <a:ext cx="88452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8081"/>
          <p:cNvSpPr/>
          <p:nvPr/>
        </p:nvSpPr>
        <p:spPr>
          <a:xfrm>
            <a:off x="2916360" y="5805360"/>
            <a:ext cx="88416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87041" descr=""/>
          <p:cNvPicPr/>
          <p:nvPr/>
        </p:nvPicPr>
        <p:blipFill>
          <a:blip r:embed="rId1"/>
          <a:stretch/>
        </p:blipFill>
        <p:spPr>
          <a:xfrm>
            <a:off x="309600" y="1209600"/>
            <a:ext cx="8524800" cy="4438800"/>
          </a:xfrm>
          <a:prstGeom prst="rect">
            <a:avLst/>
          </a:prstGeom>
          <a:ln w="0">
            <a:noFill/>
          </a:ln>
        </p:spPr>
      </p:pic>
      <p:sp>
        <p:nvSpPr>
          <p:cNvPr id="1040" name="矩形 87042"/>
          <p:cNvSpPr/>
          <p:nvPr/>
        </p:nvSpPr>
        <p:spPr>
          <a:xfrm>
            <a:off x="8093160" y="2330280"/>
            <a:ext cx="39348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87043"/>
          <p:cNvSpPr/>
          <p:nvPr/>
        </p:nvSpPr>
        <p:spPr>
          <a:xfrm>
            <a:off x="8101080" y="3429000"/>
            <a:ext cx="39348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87044"/>
          <p:cNvSpPr/>
          <p:nvPr/>
        </p:nvSpPr>
        <p:spPr>
          <a:xfrm>
            <a:off x="826920" y="4869000"/>
            <a:ext cx="20894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87045"/>
          <p:cNvSpPr/>
          <p:nvPr/>
        </p:nvSpPr>
        <p:spPr>
          <a:xfrm>
            <a:off x="3492360" y="4941720"/>
            <a:ext cx="2270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046"/>
          <p:cNvSpPr/>
          <p:nvPr/>
        </p:nvSpPr>
        <p:spPr>
          <a:xfrm>
            <a:off x="1547640" y="5300640"/>
            <a:ext cx="8049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86017" descr=""/>
          <p:cNvPicPr/>
          <p:nvPr/>
        </p:nvPicPr>
        <p:blipFill>
          <a:blip r:embed="rId1"/>
          <a:stretch/>
        </p:blipFill>
        <p:spPr>
          <a:xfrm>
            <a:off x="361800" y="1924200"/>
            <a:ext cx="8420400" cy="3009600"/>
          </a:xfrm>
          <a:prstGeom prst="rect">
            <a:avLst/>
          </a:prstGeom>
          <a:ln w="0">
            <a:noFill/>
          </a:ln>
        </p:spPr>
      </p:pic>
      <p:sp>
        <p:nvSpPr>
          <p:cNvPr id="1046" name="矩形 86018"/>
          <p:cNvSpPr/>
          <p:nvPr/>
        </p:nvSpPr>
        <p:spPr>
          <a:xfrm>
            <a:off x="8150400" y="2349360"/>
            <a:ext cx="365040" cy="38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84993" descr=""/>
          <p:cNvPicPr/>
          <p:nvPr/>
        </p:nvPicPr>
        <p:blipFill>
          <a:blip r:embed="rId1"/>
          <a:stretch/>
        </p:blipFill>
        <p:spPr>
          <a:xfrm>
            <a:off x="347760" y="2100240"/>
            <a:ext cx="8448480" cy="2657520"/>
          </a:xfrm>
          <a:prstGeom prst="rect">
            <a:avLst/>
          </a:prstGeom>
          <a:ln w="0">
            <a:noFill/>
          </a:ln>
        </p:spPr>
      </p:pic>
      <p:sp>
        <p:nvSpPr>
          <p:cNvPr id="1048" name="矩形 84994"/>
          <p:cNvSpPr/>
          <p:nvPr/>
        </p:nvSpPr>
        <p:spPr>
          <a:xfrm>
            <a:off x="3978360" y="2511360"/>
            <a:ext cx="9079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84995"/>
          <p:cNvSpPr/>
          <p:nvPr/>
        </p:nvSpPr>
        <p:spPr>
          <a:xfrm>
            <a:off x="7667640" y="2492280"/>
            <a:ext cx="566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84996"/>
          <p:cNvSpPr/>
          <p:nvPr/>
        </p:nvSpPr>
        <p:spPr>
          <a:xfrm>
            <a:off x="1835280" y="2924280"/>
            <a:ext cx="7570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83969" descr=""/>
          <p:cNvPicPr/>
          <p:nvPr/>
        </p:nvPicPr>
        <p:blipFill>
          <a:blip r:embed="rId1"/>
          <a:stretch/>
        </p:blipFill>
        <p:spPr>
          <a:xfrm>
            <a:off x="495360" y="1433520"/>
            <a:ext cx="8153280" cy="3990960"/>
          </a:xfrm>
          <a:prstGeom prst="rect">
            <a:avLst/>
          </a:prstGeom>
          <a:ln w="0">
            <a:noFill/>
          </a:ln>
        </p:spPr>
      </p:pic>
      <p:sp>
        <p:nvSpPr>
          <p:cNvPr id="1052" name="矩形 83970"/>
          <p:cNvSpPr/>
          <p:nvPr/>
        </p:nvSpPr>
        <p:spPr>
          <a:xfrm>
            <a:off x="7854840" y="2664000"/>
            <a:ext cx="3654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82945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24840" cy="5905440"/>
          </a:xfrm>
          <a:prstGeom prst="rect">
            <a:avLst/>
          </a:prstGeom>
          <a:ln w="0">
            <a:noFill/>
          </a:ln>
        </p:spPr>
      </p:pic>
      <p:sp>
        <p:nvSpPr>
          <p:cNvPr id="1054" name="矩形 82946"/>
          <p:cNvSpPr/>
          <p:nvPr/>
        </p:nvSpPr>
        <p:spPr>
          <a:xfrm>
            <a:off x="7845480" y="1349280"/>
            <a:ext cx="36504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81921" descr=""/>
          <p:cNvPicPr/>
          <p:nvPr/>
        </p:nvPicPr>
        <p:blipFill>
          <a:blip r:embed="rId1"/>
          <a:stretch/>
        </p:blipFill>
        <p:spPr>
          <a:xfrm>
            <a:off x="480960" y="1728720"/>
            <a:ext cx="8182080" cy="3400560"/>
          </a:xfrm>
          <a:prstGeom prst="rect">
            <a:avLst/>
          </a:prstGeom>
          <a:ln w="0">
            <a:noFill/>
          </a:ln>
        </p:spPr>
      </p:pic>
      <p:sp>
        <p:nvSpPr>
          <p:cNvPr id="1056" name="矩形 81922"/>
          <p:cNvSpPr/>
          <p:nvPr/>
        </p:nvSpPr>
        <p:spPr>
          <a:xfrm>
            <a:off x="7883640" y="3502080"/>
            <a:ext cx="36504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80897" descr=""/>
          <p:cNvPicPr/>
          <p:nvPr/>
        </p:nvPicPr>
        <p:blipFill>
          <a:blip r:embed="rId1"/>
          <a:stretch/>
        </p:blipFill>
        <p:spPr>
          <a:xfrm>
            <a:off x="509760" y="1471680"/>
            <a:ext cx="8124480" cy="3914640"/>
          </a:xfrm>
          <a:prstGeom prst="rect">
            <a:avLst/>
          </a:prstGeom>
          <a:ln w="0">
            <a:noFill/>
          </a:ln>
        </p:spPr>
      </p:pic>
      <p:sp>
        <p:nvSpPr>
          <p:cNvPr id="1058" name="矩形 80898"/>
          <p:cNvSpPr/>
          <p:nvPr/>
        </p:nvSpPr>
        <p:spPr>
          <a:xfrm>
            <a:off x="7854840" y="3816360"/>
            <a:ext cx="3654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38:49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